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F7E-B173-46EE-9AF2-31685B64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0F80-ED3E-468C-95B9-5CA785C8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2D474-2205-4D60-A987-3E6945BB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7E8BC-E7A3-4D77-AA5C-DB6B1052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E3BFA7-6053-4866-B659-9A3F744E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270FF-3F8D-4B79-9967-6CCFBD2D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C0D50-2289-4F24-91BA-09EF2E0E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6C78D-D7BA-43E0-870D-CC5E9DA9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061C3F-952A-4FD9-B731-F8CD231B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FAF7D-A82C-4FD1-A9F7-81D7BCF5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83029-8D56-449B-B2C0-247A87ADD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3EAB97-2114-4DCC-A67A-8F0B1C85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A114-CEED-4AD1-BDFA-7BDE4936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74862-2E07-4ED2-9694-D00AB333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986DF-6F59-4E01-9452-A1D29A7A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4D3FB-16F8-450E-94D9-C0D27FE03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9A12F3-4710-481B-8F1D-08337566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F9AA52-3FD8-4E04-ADF1-5AAFDC4F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EDCBF-F7AE-4395-A4FB-32703C5A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187DD-43E4-4C0F-B289-B9F97B04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2D3A1-D5F0-4D7A-B243-D9477AE6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60386-13B2-46E3-BD32-CA3C4790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2F5D9-0233-4398-9595-0CB2F1DD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3B6-C541-4E2C-A5E9-D9E5DABDA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66DD6-C3AA-47E9-9FA7-727BBEC8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418B2-C619-4FA6-94D4-667336ED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8B1E5-6F0D-4DC9-883A-1D86A13E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24CB0-AF7D-4D9B-88BF-75941943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DEC655-E42A-4B77-8ED4-7BFAE074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2B973-CED7-4324-9F52-6215FF0E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4794A-24DF-41BE-B1CF-F4D3139C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B1CDC-01AE-4434-B5C6-07B6C18A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EB189-D48D-46BB-8985-C1998513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EAE47-780D-48F5-BDEB-F0E0A7B7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A301A-FC74-4A9C-84C6-B1B2681D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512EC-4451-47B2-BA89-7372E743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B40CE-EE03-431D-96DB-BC312A8B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F0887-4AF4-4DE4-A579-88BC10DE0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CB6C5-1CB7-49DE-9B33-D940DF69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CF64A9-AD39-4C99-B5BC-16187A20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3A43E-C1AA-4446-9F8E-E757FB897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71F84-F6AF-44B1-B2C7-F3B532FD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CDFE28-A221-4F62-BB41-E79D829A8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F6663-5BCD-4698-A507-751F623D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69CFC7-B65A-4DC0-9B25-99CD60E6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6123-0067-4006-8D24-2C6C92FB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4E9FC-3B65-4667-A932-79E7C3DE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30624A-EC83-42E3-9AB1-4AE25CB2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E2DC7-A5B3-461D-93A9-886FF003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311D7-0437-4E90-9592-700C886E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4FFF9B-AB67-4FF8-B1A6-CBCD55A0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BEA315-8E2C-4D2E-A9AA-AE4BF444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04BEFF-9034-49AE-A322-22CEB0C4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5658B-FEF0-476B-96AA-B7956BA6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8FB7A-D47D-42AB-B3A4-2B2426AC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C2508-5ADE-4243-8F55-99AF3705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69A6-989A-4E63-8F62-C77CFBD6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BD44B4-55DD-4970-B927-8F94B5F8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DDC30-E7F3-4225-8D4C-C437D8DF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EB614A-E2F8-4765-9098-956985CD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6D08D-EF61-4C67-B438-28BEB467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DEC46-E791-4086-AEDF-8CBF45F3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42D3D-542D-4DE7-8F81-563AB594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D6D41-5733-44E8-A4E1-D8A04A596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0C17F5-DE82-4960-8A1C-038F1D24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4314D-813B-4D37-B7D5-22703AEB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4912E4-F8D7-4CD7-B979-16355980A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F093-A315-489B-BD08-4DF460DD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B6D761-2073-4926-A2EC-254184E4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FDBBB-8BF7-4169-A82A-5BAB8676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A55449-DFE1-483E-8518-429431D8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4AB7C-4193-4B54-807C-0F17A2C8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1162DA-F531-40FD-980F-2E78B605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426F5E-14F8-41B8-8719-E5DB4309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5C8F2-C8CA-46A8-A07C-6BCE1208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78DAC-3C70-4AC9-AF95-4AA6BB58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CCC2D-D1A9-4D8C-BA8A-9C46A6DFF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542B6-7862-4A26-943C-626EA736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9CBC-38B2-456D-8FA9-008F6F2E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921FD-4111-4487-9DA0-904E07EF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0A3045-3CD5-49EF-A2CA-1E1E3BB2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741D21-76D8-44FD-A75F-E791C122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26D4A-7E59-4D13-9C95-7D8A12B9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097A8-18EE-4F52-B15C-0CFCF6F0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8D5F0C-3279-4F83-8BFF-88AF31DB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743F60-CF34-4970-B962-AC9CD0A7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4BEB5F-225D-4DB5-82B0-32B7DE65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B452C-CF70-490F-B264-A29EBB6D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1EC58-BABD-4493-BF19-2127FC9C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1FAD-951E-465F-A9CE-BD7D092E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AEF7C1-8EDB-4B5D-AC3A-0C684573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60803F-2BF9-4FB2-A19D-AB5F90EF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738F6-F813-4A4E-B62E-7A343AAD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F17C0-3379-44EE-AC82-4697F635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C90323-B00A-4504-A9B1-F46D6E6D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76870-4146-4D4B-99A7-557FC269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82A8E-554B-4B38-970D-BE11C6B1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A67E0-218D-48E8-A037-1307274CB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6F798-5668-493C-AE04-ADDC0280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888777-43D5-45AE-B1A0-1C4B28DA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7656-DDD2-4723-A4B2-9ED5C8B1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0202C0-09A8-42B6-AC14-6A4F8B65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2A42B5-0DD4-4823-A529-266C8E322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9F117-D7C8-444F-B8C9-DB94288B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8BDD34-14EC-4653-AFBC-A29C57F7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A2CAA-6387-456A-9D46-545A9DCB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BBA3C1-25E1-4A0E-8B2D-10120021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B10FDE-5ACD-4C87-8B7B-12C285A7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AED22E-861B-4157-AC10-9414E58B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C8A613-3E53-4CB4-B475-7AFB634B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0D2B0F-3D31-4501-BFE0-DD97F166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5F2-C4C2-40AD-96AC-7BAE7607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3CC0-E2CB-44A0-BD14-C148370C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C321D3-F5D7-4FA3-B0DF-34642E02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05ECAC-696E-4BEE-9BD5-29625D8B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DBEC03-E4EF-4BD2-BBE0-87059548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79A54-30E5-4CD4-BDA5-B3CDB7BD0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90639-8064-4CC8-BD8F-678CE2721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F2CB35-B07A-4BA7-A4D6-8F3CB7B7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B7B21D-6075-450E-A06D-E782EC06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A1F7D1-358E-4E01-9BAA-18B3D349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70C65A-DE89-47EB-ABAE-EE5EB4FF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942B78-87E5-4F84-8A99-E99059CA6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BFF9-E16A-4292-B669-6936A328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AA725B-7E2E-4BBC-A2B1-5615D82C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2BF37-5449-4078-B7A0-BA8E40D1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F982E-93EB-428C-A5DE-35C5DC6F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822BB1-BD20-41C0-81B6-A1366497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32C89-D1C9-4F4B-9709-7AD9592D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95FBD4-932E-42A1-A234-041CA360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045BB-D5EB-4888-A412-F7A3B367C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CEE47B-5C1A-4BC4-AC0C-05C5FFD5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0CD3DD-AFD8-429C-A3DF-3AD3E929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736CB1-3A11-4827-A1F0-CC692AF23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D7CA-528A-472F-9A8D-F2C83D69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369306-26E1-489D-8632-86D30E01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22F86D-4A19-4D21-8336-6746A4C9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8D1C20-B8F0-4633-9309-B62EBAD4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95EAB1-0F10-4484-8541-BFA04261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C45537-5A44-4648-A895-4181261D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A4D58-8839-4A57-AA88-CC8BF223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EB49DC-E67E-4112-8EBF-F86263536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04CFE-A2D4-43FA-8308-4D8FE875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88ABA-6FA4-4FEA-979C-110616DBD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BA0FB2-AAFC-41FE-BB4E-DA98CF1A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8AA1-34E0-49A9-9153-3D710157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D14734-BC8E-4FFD-8C05-4C9A9831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2DBEBE-0D87-4944-9309-3DCC4D31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34C18-8B8C-486D-AC1F-697DAE06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351D1A-7B95-4CBB-A201-4696BE4B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BC528B-6F91-4782-8D88-B43FC171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7A6456-7D92-478D-B748-641E12C9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7222A2-A440-45A5-9F98-C31C38C6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7E6952-928E-417D-A805-7FBE0EA7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F285B8-5F54-48AC-A6F0-35D51423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02AABA-90F9-4FDD-BF00-139C2A05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17B9-FE07-4334-A0D1-AA4F57E7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A6A5BC-E8A0-4D84-B971-1B2C7FDA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0E57D-FD69-45F6-BC18-D16A20B9D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71BCC-C221-49F6-BFE5-24E51A33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59A38F-0AC9-4D5C-9DDA-E174BC88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825B62-91C8-4D98-BFF5-4B9ADDB7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800EA9-39CC-4996-A98D-E54D7570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D0C74-059C-408A-82B9-8711029F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50ED56-91E4-421F-A7B2-6AFDC9B2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F6C081-D500-463D-B4DB-D5E2FC9C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0753C7-9D82-4CD8-B2A3-964D746C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52FFC-ED32-45B8-9609-756FAEF4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A1A4AB-D135-44AE-A942-1724B29E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B90B40-18FC-42A7-972A-43484698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766F37-0E09-43D1-8895-B6A8C247E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DEDDD5-94E6-4B2E-9067-981BDF673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1CA0B9-ED5F-48E5-A8C0-5712D90A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4DE0DC-5D11-4685-AE5F-6BBDE1ED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58E293-C224-45DE-9795-DB4FD1E58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19C6D4-EDC9-49C6-85BE-FCDB1476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B37DA3-4B1E-49E1-B3D7-3CE787DC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786FD8-6873-4E18-8422-AC708DE98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93EDD-FC1E-4520-8DA0-D0EF6C67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67D975-EA62-49D2-A665-B73BF148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65BE2D-FDD8-41BC-957C-E065943A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5E4BAA-5E54-440A-97D2-AA567744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4A382F-E624-43F6-8C84-9C661910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72B049-BE11-40F2-80CB-D7F913EC8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CC3306-8833-4C6B-BE11-E812896B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373844-1AF2-49F0-8FA2-C4380D4F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7BF564-1019-4CFA-90DE-38CDB68E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D8D73F-06FA-4E8A-8171-00F1EDF8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09B036-CA21-4370-8A5E-D442A664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F2ADD-3108-444C-8DDE-AA03EC81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8FE988-BD71-4561-8C83-F7053EEB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F1C1C1-7067-46A4-B64C-128A834E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18476E-7EF7-4209-8651-106F7BE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121DBA-7F51-4D60-8FDE-2CC261FD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D7740F-2671-4BEC-AA8A-850C286A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0EFBE7-7F47-4BD0-897D-2CDBD884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97ED7A-2288-4CF3-9446-CB1BB471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4A732-6771-4BF0-B469-6A98DD27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653B-0944-4855-9280-183B2567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F7BE-554F-4226-BA95-B930E7BA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D12E-FEE3-4F2D-980E-9BCA2AE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44499-70F1-4D44-B0D7-37E7836D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46E0-FCB4-4C48-B869-DD2097D0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75725-A243-4D2E-845C-B1C2049B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9E951-233F-4A4D-B163-76522D72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EFB5-3F3E-444A-AAB8-690C69901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34AA7-9759-4FAF-B619-6BF8A03F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5F36C-824A-451E-8210-4EBA4C55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B7552-3CB7-47D8-8A61-82E61922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9067A-4C7D-42DF-9972-28248790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5067-794C-4257-8F00-7A40E09D6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04F35-5D8E-485A-8322-99C90FEC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04545-DBB2-47C3-B65F-93BC3067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BE01D-2C02-463B-8378-6E3D3F64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5B9A0-1821-4D1B-B647-27C3B71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2401C-81E2-47E8-8BB5-B39E0C79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5F9B0-2748-4ED6-9702-E6896C64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FD42-3E17-4AAF-8B59-716B63DE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88439-2F5D-43D5-93F1-E9E0A37E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9EAAE-9A4D-4FF8-8F3B-3AC38AAA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983C8-5A04-4D29-917C-50A843C8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E044-636B-4FC8-96F3-4FCA4428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654D0-C9F4-44F1-9873-579D55EE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7121E-0328-4279-8709-C9539493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E3DCC-D2A9-4D13-AB80-EAFACA95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0A93B-0AE0-4293-9B20-092A55813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49178-B82B-464C-B544-C4AF514D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004F6-31A4-4EA0-BAF2-65DB0CF1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30183-CB13-4073-A269-E56EACDD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16211-F23D-4A85-A39D-9FD082F7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E5BDB-54DC-45A6-90CB-12E09B50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DA49-4FC6-4797-AE3D-486F0A212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76D-61FB-4AE7-ACFF-B0B0BD82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23E2F-F046-47FD-8D6E-33079858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900E9-480D-43EA-8AB8-9BFA0990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788CD-5489-4998-BEB6-9F6F35097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D273B-4B61-4FE5-8A2D-0F572756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08C09-E193-497D-8D3E-2D3B9D6A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BF47F-76CE-4CA1-B962-4E982DEC6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D1638-2C4A-48F9-ADA3-56FE4AF0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BADB6-0C4C-489C-8DE6-923B3CFD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58F95-AD2D-4EDF-BB58-7F5DFFC0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55958-C800-43E7-8B03-E027D112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E446-91CB-4D60-9352-8BA811E3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223CA-2DBA-456F-8D5E-057E375D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7EE52-2A21-40AB-9BAB-2D0BCEC2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289A9-1BAE-4E47-B9C1-82866D49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8A837-09D0-4D12-BC69-1DD87D43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EF59C-D3E0-4B9B-B94C-EAF8CFEFD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741AA-F7DB-4F34-8560-79ED0138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D1DA0-6DDA-4906-A78E-5049E074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7110F-4740-4AB7-A514-36C3B4869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004FA-5EC1-45B0-A9D0-80C5D7B3F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48CFE-F76B-4A62-A85A-A620F1A0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969A-2F64-4996-BAE0-008D2BD9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00F32-96C8-4D18-98BB-81DD167C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27611-0EA8-486A-8C44-86A5A25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A982C-4B0F-41AA-A9E5-A26A8038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7E83C-0AA5-4A9D-B12E-5424B75A9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B3FD2-BB76-462F-89DF-BA0510E1F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90904-8E1B-4D03-B9AF-8A703E39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7CF23-BFE8-4D3F-9B7C-30A07103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C7510-FAD9-4BBF-80D8-9597C816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1953F-B785-4236-9F28-5E27BF0F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2BBDA-7ECA-4E4C-A656-A5E9C974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E84-1FF7-4D25-A0CD-AE152BCE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1671AB-9D8B-4130-9FC9-4A8F7204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126A7-90CA-43B4-AB7E-6CA1BAFA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62C35-0C8F-4978-AA82-557425AD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ADFE2-B937-4EC4-ABB3-83571C25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48F7C-9770-406F-AE90-2B499A83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BBDB4-DFD0-4A9F-9FC7-BC7A0FF86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8564F-B2D8-46D7-8BBB-4EEFE88B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40A4B-98CC-401F-9E2C-9B86DB65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50BFE-0EDB-4A7C-AD78-B24E3F20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1A782-ED2A-4EAE-BB7B-2DB93E5F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0193-DDB7-4CE4-AD54-AEC5481E12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3298-3629-4114-A40D-E7E3FD4760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ABB77-8DFD-4866-8548-72AB7B359B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D8EC-36AE-41D3-9E35-2DA3E038A4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C6903-D389-4B88-B4AD-0443560384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9010-4C11-4AFF-8DB5-F205FF441D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CFAC-F570-415A-9882-DB802624D4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8E6D-2667-4F24-8C81-6D4E02FE02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9009-280D-4B6E-AF91-87F0D3BFE4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618A-BC9A-421B-A0EE-2B78A6401B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0F9F-D693-4D0E-BDF1-E19317A067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18C4-66B1-4AE5-9830-772A14ADC2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220B-D4CC-411F-9597-C97669ECC9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1514-6729-438B-B513-BFD68E8693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2185-89C2-4AB4-9059-F5D800CAC9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2093-137A-46CC-A57B-65C295FA0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0FF1-4467-403C-A93B-D505F8C4FE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FE7D-9D9F-4BDE-B0E3-42809AADF3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7EFE-3B03-4B8E-BA18-7E4344667E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8424-F652-4FF2-896D-7C88D59569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8B6F-6E71-4EF6-9066-A4EE4DF829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AB59-E4C3-4ADD-A6D9-23BAB654600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DDE4-1242-4557-AEDE-F7F2C09E8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AB56-821A-4382-A5C8-3EAC86383B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96F7-8607-465C-BC92-8A661C035B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3957-4544-4733-A1BF-5891596699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2386-4304-46AD-9A7A-01671A0AAC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3D44-891A-498A-975C-EC1D3CFB2D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2022-C8B0-4661-BA52-2034324247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6F68-D81A-4FF4-9591-EA5D678120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94B6-0040-467A-B81B-5D2A5576ED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4C87-7CD2-49C9-A1D4-0EA854C768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4B97-514A-4328-8247-8FB8EB83A9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16EE-4AD9-457C-829E-A8E77931231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B0D2-181B-4ED7-92F5-B4545D076D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F807-FA0F-4B87-B69E-F24A637B6A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D56E-344F-4AEB-AEF6-381FAF4696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9181-B711-4827-8B6D-EFF4C4AA76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D063-B384-4941-8007-B3F0CB8802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571F-A1F8-4C24-8557-F16E2A1DF5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ED70-7033-4E29-BF46-903908704C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90B8-D40A-46CC-B0F0-E3AC206868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709640" y="1403280"/>
            <a:ext cx="5724720" cy="156204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34920" y="3382920"/>
            <a:ext cx="8891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228600" y="1042920"/>
            <a:ext cx="8686800" cy="477216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755640" y="5300640"/>
            <a:ext cx="1871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500040" y="809640"/>
            <a:ext cx="8143920" cy="52387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3492360" y="5473800"/>
            <a:ext cx="1366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1" descr=""/>
          <p:cNvPicPr/>
          <p:nvPr/>
        </p:nvPicPr>
        <p:blipFill>
          <a:blip r:embed="rId1"/>
          <a:stretch/>
        </p:blipFill>
        <p:spPr>
          <a:xfrm>
            <a:off x="600120" y="1700280"/>
            <a:ext cx="7943760" cy="34574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2"/>
          <a:stretch/>
        </p:blipFill>
        <p:spPr>
          <a:xfrm>
            <a:off x="2411280" y="4508640"/>
            <a:ext cx="129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585720" y="819000"/>
            <a:ext cx="7972560" cy="52200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529272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5003640" y="5459400"/>
            <a:ext cx="13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81080" y="895320"/>
            <a:ext cx="8781840" cy="56959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2340000" y="436572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3492360" y="5992920"/>
            <a:ext cx="1008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552600" y="2604960"/>
            <a:ext cx="8038800" cy="16480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3708360" y="350028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809640" y="1752480"/>
            <a:ext cx="7524720" cy="33530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3348000" y="278136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3132000" y="3573360"/>
            <a:ext cx="13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2843280" y="44226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7164360" y="280980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136836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7"/>
          <a:stretch/>
        </p:blipFill>
        <p:spPr>
          <a:xfrm>
            <a:off x="6732720" y="4437000"/>
            <a:ext cx="1368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162000" y="804960"/>
            <a:ext cx="8820000" cy="59338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3203640" y="6021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4095720" y="603576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5105520" y="59785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997600" y="59929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6948360" y="60069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7840800" y="602136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519120" y="919080"/>
            <a:ext cx="8105760" cy="5724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4788000" y="452268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6443640" y="537372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3419640" y="6121440"/>
            <a:ext cx="792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02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